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7836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13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7836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1320" y="397836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2400" y="182880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9680" y="182880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7836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2400" y="397836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9680" y="397836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828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1320" y="182880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1320" y="182880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7836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13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1320" y="397836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1320" y="182880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78360"/>
            <a:ext cx="6705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905120" y="18288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542160" indent="-542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20400" indent="-406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9520" indent="-338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6320" indent="-33876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6320" indent="-3387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6320" indent="-3387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1337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920" y="1228680"/>
            <a:ext cx="539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i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ck Holder.mc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1920" y="1800360"/>
            <a:ext cx="6045120" cy="441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28760" y="1967040"/>
            <a:ext cx="4524480" cy="1933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47680" y="4124160"/>
            <a:ext cx="4676760" cy="273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90760" y="1209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29080" y="1009800"/>
            <a:ext cx="651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Holder will create a dummy parallel toolpath during the calcul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7400" y="2638440"/>
            <a:ext cx="267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Original tool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86000" y="2857680"/>
            <a:ext cx="800280" cy="0"/>
          </a:xfrm>
          <a:prstGeom prst="line">
            <a:avLst/>
          </a:prstGeom>
          <a:ln w="38160">
            <a:solidFill>
              <a:srgbClr val="113b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7880" y="5600880"/>
            <a:ext cx="306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Dummy tool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05320" y="5819760"/>
            <a:ext cx="1362240" cy="0"/>
          </a:xfrm>
          <a:prstGeom prst="line">
            <a:avLst/>
          </a:prstGeom>
          <a:ln w="38160">
            <a:solidFill>
              <a:srgbClr val="113b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62080" y="200484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467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9080" y="1009800"/>
            <a:ext cx="651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Minimum tool length” is 4.2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05400" y="3495600"/>
            <a:ext cx="1990800" cy="4096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1171440"/>
            <a:ext cx="651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 Toolholder interference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0080" y="1995480"/>
            <a:ext cx="6485040" cy="366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95560" y="2705040"/>
            <a:ext cx="1571400" cy="2952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14520" y="595296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the “Holder” but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05000" y="1028880"/>
            <a:ext cx="5667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lder diameter is taken from the “holder dia” on the “Define Tool” dialog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6520" y="2357280"/>
            <a:ext cx="3305160" cy="406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1440" y="1971720"/>
            <a:ext cx="402588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24800" y="3152880"/>
            <a:ext cx="1304640" cy="609480"/>
          </a:xfrm>
          <a:prstGeom prst="ellipse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5240" y="3267000"/>
            <a:ext cx="2276640" cy="1047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3120" y="2924280"/>
            <a:ext cx="2476440" cy="10666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04840" y="538164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T toolpaths aren’t support at this tim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19360" y="1028880"/>
            <a:ext cx="6153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the “Plot safe motion” to see the area’s of the toolpath that don’t have any toolholder interferenc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23920" y="206208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95680" y="4143240"/>
            <a:ext cx="1733400" cy="4096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19360" y="1028880"/>
            <a:ext cx="6153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the “Plot safe motion” to see the area’s of the toolpath that don’t have any toolholder interferenc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4200" y="1525680"/>
            <a:ext cx="6026400" cy="533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57360" y="2352600"/>
            <a:ext cx="255744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19360" y="1028880"/>
            <a:ext cx="615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the “Plot unreachable motion” to see the area’s of the toolpath that the tool can’t reach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23920" y="206208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76600" y="4172040"/>
            <a:ext cx="1733760" cy="40932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19360" y="1028880"/>
            <a:ext cx="6153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the “Plot unreachable motion” to see the area’s of the toolpath that the tool can’t reach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19480" y="1452600"/>
            <a:ext cx="5360760" cy="50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143160" y="3419640"/>
            <a:ext cx="2000520" cy="1333440"/>
          </a:xfrm>
          <a:prstGeom prst="ellipse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1276200"/>
            <a:ext cx="615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into the “Modify source operations”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23920" y="206208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305400" y="4210200"/>
            <a:ext cx="1619280" cy="3618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0840" y="5753160"/>
            <a:ext cx="285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19200" y="1190520"/>
            <a:ext cx="615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four 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85880" y="2200320"/>
            <a:ext cx="5550120" cy="408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00440" y="2714760"/>
            <a:ext cx="5067360" cy="780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62240" y="1743120"/>
            <a:ext cx="473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Add manual entry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0080" y="1209600"/>
            <a:ext cx="663444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Checkholder do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require tool length for an oper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y interferences that the toolholder will have with th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dditional tools and operations for deeper area’s that the original tool couldn’t rea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tool length is 1 inch, and the required length is 1 ½ inches then a 1 ¼ and a 1 ½ tools are created along with an separate operation for each too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9960" y="971640"/>
            <a:ext cx="5000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Add manual entry” grabs the settings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ences\Manual 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23840" y="2438280"/>
            <a:ext cx="4230720" cy="4087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53200" y="489600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3b79"/>
                </a:solidFill>
                <a:latin typeface="Arial"/>
              </a:rPr>
              <a:t>Prefix is the text output before the required tool lengt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0" y="552456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3b79"/>
                </a:solidFill>
                <a:latin typeface="Arial"/>
              </a:rPr>
              <a:t>Suffix is the text output before the required tool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4080" y="4343400"/>
            <a:ext cx="3609720" cy="15238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76880" y="3124080"/>
            <a:ext cx="3867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refix and Suffix text will be kept as a defa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24240" y="1162080"/>
            <a:ext cx="5537160" cy="407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71840" y="1571760"/>
            <a:ext cx="5267160" cy="942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00240" y="1214280"/>
            <a:ext cx="6408720" cy="981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rot="16200000">
            <a:off x="3114720" y="1190520"/>
            <a:ext cx="295200" cy="1733760"/>
          </a:xfrm>
          <a:custGeom>
            <a:avLst/>
            <a:gdLst>
              <a:gd name="textAreaLeft" fmla="*/ 188640 w 295200"/>
              <a:gd name="textAreaRight" fmla="*/ 295200 w 295200"/>
              <a:gd name="textAreaTop" fmla="*/ 45000 h 1733760"/>
              <a:gd name="textAreaBottom" fmla="*/ 1688760 h 17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19200" y="2219400"/>
            <a:ext cx="172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91200" y="2247840"/>
            <a:ext cx="172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uff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5838840" y="1218960"/>
            <a:ext cx="295200" cy="1733760"/>
          </a:xfrm>
          <a:custGeom>
            <a:avLst/>
            <a:gdLst>
              <a:gd name="textAreaLeft" fmla="*/ 188640 w 295200"/>
              <a:gd name="textAreaRight" fmla="*/ 295200 w 295200"/>
              <a:gd name="textAreaTop" fmla="*/ 45000 h 1733760"/>
              <a:gd name="textAreaBottom" fmla="*/ 1688760 h 17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47760" y="3057480"/>
            <a:ext cx="77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b79"/>
                </a:solidFill>
                <a:latin typeface="Arial"/>
              </a:rPr>
              <a:t>The required tool length is outputted automatically</a:t>
            </a:r>
            <a:r>
              <a:rPr b="1" lang="en-US" sz="1800" spc="-1" strike="noStrike">
                <a:solidFill>
                  <a:srgbClr val="113b7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66800" y="3571920"/>
            <a:ext cx="5448240" cy="2486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4257720"/>
            <a:ext cx="5153040" cy="42876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1160" y="6067440"/>
            <a:ext cx="608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nual entry operation is created and put before the selected ope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11280" y="1614600"/>
            <a:ext cx="7632720" cy="2292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95600" y="3009960"/>
            <a:ext cx="5305320" cy="3236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d NC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 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1771560"/>
            <a:ext cx="5658120" cy="4705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38200" y="2752560"/>
            <a:ext cx="1876680" cy="285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43480" y="2666880"/>
            <a:ext cx="528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48080" y="2581200"/>
            <a:ext cx="5467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The setup sheet “overall Length” wasn’t updated since the NCI file wasn’t mod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3960" y="1038240"/>
            <a:ext cx="602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“Change tool length” in NCI and lock opera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3480" y="2666880"/>
            <a:ext cx="528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357280" y="1886040"/>
            <a:ext cx="5932800" cy="436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57360" y="3124080"/>
            <a:ext cx="5257800" cy="79056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rning message will come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90960" y="1657440"/>
            <a:ext cx="390816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128600" y="4343400"/>
            <a:ext cx="6548400" cy="2514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67000" y="3695760"/>
            <a:ext cx="69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ion will be modified and lo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04800" y="1905120"/>
            <a:ext cx="5257800" cy="4952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 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14520" y="2914560"/>
            <a:ext cx="2104920" cy="2952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86040" y="2886120"/>
            <a:ext cx="52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NCI from the CheckHolder C-ho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85880" y="2257560"/>
            <a:ext cx="5019840" cy="3695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24120" y="4038480"/>
            <a:ext cx="2962440" cy="62892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23960" y="1038240"/>
            <a:ext cx="602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“Create a new tool for source opera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rning message will come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67000" y="3695760"/>
            <a:ext cx="69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tool is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47840" y="1704960"/>
            <a:ext cx="4015080" cy="18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38400" y="4295880"/>
            <a:ext cx="5876640" cy="2438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182000" y="48085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24600" y="4124160"/>
            <a:ext cx="20671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bug in X2 where the graphics of the tool number isn’t being upd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48000" y="5267160"/>
            <a:ext cx="552240" cy="457200"/>
          </a:xfrm>
          <a:prstGeom prst="ellipse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8920" y="12193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 – To find the required tool length for the tool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71600" y="1641600"/>
            <a:ext cx="5018040" cy="4583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2580840" y="3924360"/>
            <a:ext cx="638280" cy="0"/>
          </a:xfrm>
          <a:prstGeom prst="line">
            <a:avLst/>
          </a:prstGeom>
          <a:ln w="38160">
            <a:solidFill>
              <a:srgbClr val="113b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81200" y="3209760"/>
            <a:ext cx="581040" cy="0"/>
          </a:xfrm>
          <a:prstGeom prst="line">
            <a:avLst/>
          </a:prstGeom>
          <a:ln w="38160">
            <a:solidFill>
              <a:srgbClr val="113b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838600" y="3219480"/>
            <a:ext cx="0" cy="218880"/>
          </a:xfrm>
          <a:prstGeom prst="line">
            <a:avLst/>
          </a:prstGeom>
          <a:ln w="38160">
            <a:solidFill>
              <a:srgbClr val="113b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8600" y="3676680"/>
            <a:ext cx="9360" cy="228600"/>
          </a:xfrm>
          <a:prstGeom prst="line">
            <a:avLst/>
          </a:prstGeom>
          <a:ln w="38160">
            <a:solidFill>
              <a:srgbClr val="113b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371760"/>
            <a:ext cx="89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b7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29000" y="2038320"/>
            <a:ext cx="5019480" cy="3695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81400" y="1028880"/>
            <a:ext cx="602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“Modify too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43480" y="2666880"/>
            <a:ext cx="528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81200" y="4343400"/>
            <a:ext cx="2705040" cy="9716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rning message will come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7000" y="3962520"/>
            <a:ext cx="69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ol will be modified for all operations that use 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57680" y="1647720"/>
            <a:ext cx="310032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23960" y="1038240"/>
            <a:ext cx="602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 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567240" y="2781360"/>
            <a:ext cx="3557520" cy="3438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81240" y="1952640"/>
            <a:ext cx="623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Go into preferences and select “Multiple tools” and set an increment tool length dist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66960" y="3666960"/>
            <a:ext cx="3191040" cy="6480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81240" y="1704960"/>
            <a:ext cx="623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Select the “Use minimum test tool length” and choose a starting tool lengt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04840" y="264312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162160" y="4086360"/>
            <a:ext cx="1704960" cy="73332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33640" y="6381720"/>
            <a:ext cx="61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it reset if the minimum tool length is chang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81240" y="1609560"/>
            <a:ext cx="623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Checkholder generated 4 tools to complete the toolpath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04840" y="2643120"/>
            <a:ext cx="6485040" cy="3667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085840" y="4971960"/>
            <a:ext cx="3781440" cy="1104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66840" y="2700360"/>
            <a:ext cx="396252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81240" y="1609560"/>
            <a:ext cx="623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Going into the “Select” will give a list of the tools that were created and their length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81240" y="2981160"/>
            <a:ext cx="1628640" cy="447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315040" y="3257640"/>
            <a:ext cx="533160" cy="93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360" bIns="-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90520" y="547704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can be deleted from here or add additional tool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105600" y="2381400"/>
            <a:ext cx="2590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90560" cy="321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2590920" cy="3219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81240" y="1609560"/>
            <a:ext cx="623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To add a tool length, select a tool and hit “Insert new” and a new tool length will be add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91240" y="3200400"/>
            <a:ext cx="2381040" cy="20952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19240" y="5000760"/>
            <a:ext cx="1228680" cy="3524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63040" y="3095640"/>
            <a:ext cx="138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New 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86760" y="3305160"/>
            <a:ext cx="38088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890720" y="2452680"/>
            <a:ext cx="6485040" cy="36669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23960" y="1038240"/>
            <a:ext cx="602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81240" y="1743120"/>
            <a:ext cx="623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b79"/>
                </a:solidFill>
                <a:latin typeface="Arial"/>
              </a:rPr>
              <a:t>Hit “Create” to generate the 3 oper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91120" y="5334120"/>
            <a:ext cx="2000520" cy="3902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942840"/>
            <a:ext cx="602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8920" y="1714680"/>
            <a:ext cx="4905360" cy="4324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48520" y="1866960"/>
            <a:ext cx="28954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The operation will be ghosted so it won’t be posted and 3 “Check Holder” operations are creat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47720" y="3171960"/>
            <a:ext cx="44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47720" y="4010040"/>
            <a:ext cx="44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4905360"/>
            <a:ext cx="4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942840"/>
            <a:ext cx="602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55920" y="2289240"/>
            <a:ext cx="7407000" cy="5445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143080" y="1628640"/>
            <a:ext cx="632448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Operation #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(second depth c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nt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4981680"/>
            <a:ext cx="495360" cy="60948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895880" y="5153040"/>
            <a:ext cx="352440" cy="39060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47600" y="4572000"/>
            <a:ext cx="1000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cf0e3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 C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43920" y="4734000"/>
            <a:ext cx="1000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cf0e3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 C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85920" y="1228680"/>
            <a:ext cx="6958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operation that you want to check. Only one operation can be checked at a ti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71520" y="2733840"/>
            <a:ext cx="452448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3981600"/>
            <a:ext cx="3981600" cy="119052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24000" y="441000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942840"/>
            <a:ext cx="602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Multiple Tools and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3080" y="1628640"/>
            <a:ext cx="632448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Operation #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13b79"/>
                </a:solidFill>
                <a:latin typeface="Arial"/>
              </a:rPr>
              <a:t>(third depth c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nt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17720" y="2562120"/>
            <a:ext cx="6578640" cy="381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flipH="1">
            <a:off x="7800840" y="5315040"/>
            <a:ext cx="409680" cy="36180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5219640"/>
            <a:ext cx="742680" cy="4478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61920" y="4867200"/>
            <a:ext cx="1000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3rd C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3920" y="4924440"/>
            <a:ext cx="1000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3rd C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00080" y="1209600"/>
            <a:ext cx="663444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the require tool length for an oper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y interferences that the toolholder will have with th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an operation into multiple operations by dep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dditional tool or modify current tool length for deeper area’s that the original tool couldn’t rea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920" y="1228680"/>
            <a:ext cx="6413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 “Alt-C” to bring up the C-hook list and select CheckHolder.d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66840" y="2176560"/>
            <a:ext cx="5619960" cy="4182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124080" y="5067360"/>
            <a:ext cx="1133640" cy="1810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0080" y="1995480"/>
            <a:ext cx="6485040" cy="366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19720" y="2523960"/>
            <a:ext cx="933480" cy="2858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8920" y="1219320"/>
            <a:ext cx="572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into “Preferenc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8920" y="1019160"/>
            <a:ext cx="572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Single too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66920" y="1504800"/>
            <a:ext cx="4191120" cy="405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67160" y="2247840"/>
            <a:ext cx="1447920" cy="3906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9160" y="5661000"/>
            <a:ext cx="8124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ingle tool” setting is for calculating the required tool length of the tool to reach the programmed toolpat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66920" y="1504800"/>
            <a:ext cx="4191120" cy="405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52840" y="2552760"/>
            <a:ext cx="3495600" cy="71424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19160" y="5661000"/>
            <a:ext cx="8124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Multiple tool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for creating additional operations with addition tools. Each tool will be “.250 “ longer than the previous tool until the entire toolpath can be rea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476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13b79"/>
                </a:solidFill>
                <a:latin typeface="Arial"/>
              </a:rPr>
              <a:t>CheckHolder</a:t>
            </a:r>
            <a:endParaRPr b="1" lang="en-US" sz="4200" spc="-1" strike="noStrike">
              <a:solidFill>
                <a:srgbClr val="113b7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47960" y="1986120"/>
            <a:ext cx="6484680" cy="366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57880" y="3133800"/>
            <a:ext cx="1542960" cy="36180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29080" y="1104840"/>
            <a:ext cx="57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33640" y="1019160"/>
            <a:ext cx="53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the “Perform Test” button to calculate the required tool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08:00:26Z</dcterms:created>
  <dc:creator>Ben Mund</dc:creator>
  <dc:description/>
  <cp:keywords/>
  <dc:language>en-US</dc:language>
  <cp:lastModifiedBy>Mark Baker</cp:lastModifiedBy>
  <cp:lastPrinted>1999-03-11T15:42:22Z</cp:lastPrinted>
  <dcterms:modified xsi:type="dcterms:W3CDTF">2007-09-25T13:13:38Z</dcterms:modified>
  <cp:revision>19910</cp:revision>
  <dc:subject/>
  <dc:title>No Slide Title</dc:title>
</cp:coreProperties>
</file>